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5.png" ContentType="image/png"/>
  <Override PartName="/ppt/media/image3.pct" ContentType="image/x-pict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F045-B19C-481D-8490-699EB463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83552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6360" y="4142520"/>
            <a:ext cx="83552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19B7-A45E-4DCF-A97C-52A7EEF7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80648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6360" y="414252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7480" y="414252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31B5-8714-4FB2-89E7-89130483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26902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21640" y="1806480"/>
            <a:ext cx="26902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46560" y="1806480"/>
            <a:ext cx="26902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96360" y="4142520"/>
            <a:ext cx="26902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21640" y="4142520"/>
            <a:ext cx="26902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46560" y="4142520"/>
            <a:ext cx="26902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4E44-8D92-47C1-B6C4-DC8CAEB8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396360" y="1806480"/>
            <a:ext cx="8355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22DD-CAFA-418D-986C-B0AA0B32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8355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3ACE-15E0-49A8-9C04-1EAA5638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4077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480" y="1806480"/>
            <a:ext cx="4077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A5E7-D180-4866-A273-16E42BA4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B75F-BC92-4A2E-A7B3-7347F9E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8440" y="452520"/>
            <a:ext cx="67503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B324-3027-4CF6-841E-9FCB9145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7480" y="1806480"/>
            <a:ext cx="4077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96360" y="414252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A7F5-3F33-4974-83D0-EFD4484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4077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80648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7480" y="414252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2A2F-D253-4A84-B8A5-9F34D58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806480"/>
            <a:ext cx="40770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6360" y="4142520"/>
            <a:ext cx="83552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0DCF-6648-49C6-851D-7CBCF6E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hpLogoPicBlack" descr="RoLoBlackWhite_small"/>
          <p:cNvPicPr/>
          <p:nvPr/>
        </p:nvPicPr>
        <p:blipFill>
          <a:blip r:embed="rId2"/>
          <a:stretch/>
        </p:blipFill>
        <p:spPr>
          <a:xfrm>
            <a:off x="7726320" y="341280"/>
            <a:ext cx="603360" cy="339840"/>
          </a:xfrm>
          <a:prstGeom prst="rect">
            <a:avLst/>
          </a:prstGeom>
          <a:ln w="0">
            <a:noFill/>
          </a:ln>
        </p:spPr>
      </p:pic>
      <p:pic>
        <p:nvPicPr>
          <p:cNvPr id="1" name="shpLogoPicBright" descr="RoLogoBright"/>
          <p:cNvPicPr/>
          <p:nvPr/>
        </p:nvPicPr>
        <p:blipFill>
          <a:blip r:embed="rId3"/>
          <a:stretch/>
        </p:blipFill>
        <p:spPr>
          <a:xfrm>
            <a:off x="7729560" y="343080"/>
            <a:ext cx="598320" cy="33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96360" y="6323040"/>
            <a:ext cx="83552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Imago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54D-B9EB-4BFE-B514-1E255C398B94}" type="datetime">
              <a:rPr b="0" lang="en-US" sz="1600" spc="-1" strike="noStrike">
                <a:solidFill>
                  <a:srgbClr val="ffffff"/>
                </a:solidFill>
                <a:latin typeface="Imago"/>
                <a:ea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396360" y="6323040"/>
            <a:ext cx="83552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Imago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065F-8809-4C84-B2CE-323205AFCF02}" type="slidenum">
              <a:rPr b="0" lang="en-US" sz="1600" spc="-1" strike="noStrike">
                <a:solidFill>
                  <a:srgbClr val="ffffff"/>
                </a:solidFill>
                <a:latin typeface="Imago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shpGridExt"/>
          <p:cNvGrpSpPr/>
          <p:nvPr/>
        </p:nvGrpSpPr>
        <p:grpSpPr>
          <a:xfrm>
            <a:off x="396720" y="1871640"/>
            <a:ext cx="8354880" cy="4406760"/>
            <a:chOff x="396720" y="1871640"/>
            <a:chExt cx="8354880" cy="4406760"/>
          </a:xfrm>
        </p:grpSpPr>
        <p:sp>
          <p:nvSpPr>
            <p:cNvPr id="5" name="shpGridExtRect1" hidden="1"/>
            <p:cNvSpPr/>
            <p:nvPr/>
          </p:nvSpPr>
          <p:spPr>
            <a:xfrm>
              <a:off x="396720" y="1871640"/>
              <a:ext cx="38376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shpGridExtRect2" hidden="1"/>
            <p:cNvSpPr/>
            <p:nvPr/>
          </p:nvSpPr>
          <p:spPr>
            <a:xfrm>
              <a:off x="928800" y="1871640"/>
              <a:ext cx="383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shpGridExtRect3" hidden="1"/>
            <p:cNvSpPr/>
            <p:nvPr/>
          </p:nvSpPr>
          <p:spPr>
            <a:xfrm>
              <a:off x="1459440" y="1871640"/>
              <a:ext cx="3852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shpGridExtRect4" hidden="1"/>
            <p:cNvSpPr/>
            <p:nvPr/>
          </p:nvSpPr>
          <p:spPr>
            <a:xfrm>
              <a:off x="1991160" y="1871640"/>
              <a:ext cx="38376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shpGridExtRect5" hidden="1"/>
            <p:cNvSpPr/>
            <p:nvPr/>
          </p:nvSpPr>
          <p:spPr>
            <a:xfrm>
              <a:off x="2524680" y="1871640"/>
              <a:ext cx="38232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shpGridExtRect6" hidden="1"/>
            <p:cNvSpPr/>
            <p:nvPr/>
          </p:nvSpPr>
          <p:spPr>
            <a:xfrm>
              <a:off x="3053880" y="1871640"/>
              <a:ext cx="383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shpGridExtRect7" hidden="1"/>
            <p:cNvSpPr/>
            <p:nvPr/>
          </p:nvSpPr>
          <p:spPr>
            <a:xfrm>
              <a:off x="3585600" y="1871640"/>
              <a:ext cx="38376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shpGridExtRect8" hidden="1"/>
            <p:cNvSpPr/>
            <p:nvPr/>
          </p:nvSpPr>
          <p:spPr>
            <a:xfrm>
              <a:off x="4116240" y="1871640"/>
              <a:ext cx="38376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shpGridExtRect9" hidden="1"/>
            <p:cNvSpPr/>
            <p:nvPr/>
          </p:nvSpPr>
          <p:spPr>
            <a:xfrm>
              <a:off x="4648320" y="1871640"/>
              <a:ext cx="383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shpGridExtRect10" hidden="1"/>
            <p:cNvSpPr/>
            <p:nvPr/>
          </p:nvSpPr>
          <p:spPr>
            <a:xfrm>
              <a:off x="5180400" y="1871640"/>
              <a:ext cx="38376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shpGridExtRect11" hidden="1"/>
            <p:cNvSpPr/>
            <p:nvPr/>
          </p:nvSpPr>
          <p:spPr>
            <a:xfrm>
              <a:off x="5709600" y="1871640"/>
              <a:ext cx="38052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shpGridExtRect12" hidden="1"/>
            <p:cNvSpPr/>
            <p:nvPr/>
          </p:nvSpPr>
          <p:spPr>
            <a:xfrm>
              <a:off x="6243120" y="1871640"/>
              <a:ext cx="38052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shpGridExtRect13" hidden="1"/>
            <p:cNvSpPr/>
            <p:nvPr/>
          </p:nvSpPr>
          <p:spPr>
            <a:xfrm>
              <a:off x="6773400" y="1871640"/>
              <a:ext cx="383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shpGridExtRect14" hidden="1"/>
            <p:cNvSpPr/>
            <p:nvPr/>
          </p:nvSpPr>
          <p:spPr>
            <a:xfrm>
              <a:off x="7305480" y="1871640"/>
              <a:ext cx="38376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shpGridExtRect15" hidden="1"/>
            <p:cNvSpPr/>
            <p:nvPr/>
          </p:nvSpPr>
          <p:spPr>
            <a:xfrm>
              <a:off x="7836120" y="1871640"/>
              <a:ext cx="3852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shpGridExtRect16" hidden="1"/>
            <p:cNvSpPr/>
            <p:nvPr/>
          </p:nvSpPr>
          <p:spPr>
            <a:xfrm>
              <a:off x="8368200" y="1871640"/>
              <a:ext cx="383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shpAdditionalLogo" hidden="1"/>
            <p:cNvSpPr/>
            <p:nvPr/>
          </p:nvSpPr>
          <p:spPr>
            <a:xfrm>
              <a:off x="7305480" y="5054760"/>
              <a:ext cx="1446120" cy="122364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Imago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body"/>
          </p:nvPr>
        </p:nvSpPr>
        <p:spPr>
          <a:xfrm>
            <a:off x="396360" y="1806480"/>
            <a:ext cx="8355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  <a:p>
            <a:pPr lvl="1" marL="686880" indent="-258480">
              <a:spcBef>
                <a:spcPts val="2001"/>
              </a:spcBef>
              <a:buClr>
                <a:srgbClr val="ffffff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  <a:p>
            <a:pPr lvl="2" marL="1117080" indent="-258480">
              <a:spcBef>
                <a:spcPts val="2001"/>
              </a:spcBef>
              <a:buClr>
                <a:srgbClr val="ffffff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  <a:p>
            <a:pPr lvl="3" marL="1547280" indent="-258480">
              <a:spcBef>
                <a:spcPts val="2001"/>
              </a:spcBef>
              <a:buClr>
                <a:srgbClr val="ffffff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  <a:p>
            <a:pPr lvl="4" marL="1976040" indent="-257040">
              <a:spcBef>
                <a:spcPts val="2001"/>
              </a:spcBef>
              <a:buClr>
                <a:srgbClr val="ffffff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  <a:p>
            <a:pPr lvl="5" marL="1976040" indent="-257040">
              <a:spcBef>
                <a:spcPts val="2001"/>
              </a:spcBef>
              <a:buClr>
                <a:srgbClr val="ffffff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  <a:p>
            <a:pPr lvl="6" marL="1976040" indent="-257040">
              <a:spcBef>
                <a:spcPts val="2001"/>
              </a:spcBef>
              <a:buClr>
                <a:srgbClr val="ffffff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ag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ago"/>
            </a:endParaRPr>
          </a:p>
        </p:txBody>
      </p:sp>
      <p:grpSp>
        <p:nvGrpSpPr>
          <p:cNvPr id="24" name="shpGridNormal"/>
          <p:cNvGrpSpPr/>
          <p:nvPr/>
        </p:nvGrpSpPr>
        <p:grpSpPr>
          <a:xfrm>
            <a:off x="396720" y="514440"/>
            <a:ext cx="8355240" cy="6005520"/>
            <a:chOff x="396720" y="514440"/>
            <a:chExt cx="8355240" cy="6005520"/>
          </a:xfrm>
        </p:grpSpPr>
        <p:sp>
          <p:nvSpPr>
            <p:cNvPr id="25" name="shpGridTitle" hidden="1"/>
            <p:cNvSpPr/>
            <p:nvPr/>
          </p:nvSpPr>
          <p:spPr>
            <a:xfrm>
              <a:off x="396720" y="514440"/>
              <a:ext cx="675216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shpGridLogo" hidden="1"/>
            <p:cNvSpPr/>
            <p:nvPr/>
          </p:nvSpPr>
          <p:spPr>
            <a:xfrm>
              <a:off x="7305480" y="514440"/>
              <a:ext cx="14461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shpGridMain" hidden="1"/>
            <p:cNvSpPr/>
            <p:nvPr/>
          </p:nvSpPr>
          <p:spPr>
            <a:xfrm>
              <a:off x="396720" y="1871640"/>
              <a:ext cx="8355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shpGridFooter" hidden="1"/>
            <p:cNvSpPr/>
            <p:nvPr/>
          </p:nvSpPr>
          <p:spPr>
            <a:xfrm>
              <a:off x="396720" y="6357960"/>
              <a:ext cx="8355240" cy="162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" name="PlaceHolder 5"/>
          <p:cNvSpPr>
            <a:spLocks noGrp="1"/>
          </p:cNvSpPr>
          <p:nvPr>
            <p:ph type="ftr" idx="3"/>
          </p:nvPr>
        </p:nvSpPr>
        <p:spPr>
          <a:xfrm>
            <a:off x="396360" y="6334200"/>
            <a:ext cx="83552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Imago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mago"/>
                <a:ea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shpTextDiv"/>
          <p:cNvSpPr/>
          <p:nvPr/>
        </p:nvSpPr>
        <p:spPr>
          <a:xfrm rot="16200000">
            <a:off x="7180920" y="1735200"/>
            <a:ext cx="2995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Minion"/>
                <a:ea typeface="Arial"/>
              </a:rPr>
              <a:t>Pharmaceutic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shpLogoBackground"/>
          <p:cNvSpPr/>
          <p:nvPr/>
        </p:nvSpPr>
        <p:spPr>
          <a:xfrm>
            <a:off x="7381800" y="115920"/>
            <a:ext cx="1063800" cy="865080"/>
          </a:xfrm>
          <a:prstGeom prst="rect">
            <a:avLst/>
          </a:prstGeom>
          <a:solidFill>
            <a:srgbClr val="00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" name="shpLogoPicDark" descr="RoLogoDark"/>
          <p:cNvPicPr/>
          <p:nvPr/>
        </p:nvPicPr>
        <p:blipFill>
          <a:blip r:embed="rId4"/>
          <a:stretch/>
        </p:blipFill>
        <p:spPr>
          <a:xfrm>
            <a:off x="7729560" y="343080"/>
            <a:ext cx="598320" cy="336240"/>
          </a:xfrm>
          <a:prstGeom prst="rect">
            <a:avLst/>
          </a:prstGeom>
          <a:ln w="0">
            <a:noFill/>
          </a:ln>
        </p:spPr>
      </p:pic>
      <p:sp>
        <p:nvSpPr>
          <p:cNvPr id="33" name="Text Box 35"/>
          <p:cNvSpPr/>
          <p:nvPr/>
        </p:nvSpPr>
        <p:spPr>
          <a:xfrm>
            <a:off x="3546000" y="6508800"/>
            <a:ext cx="217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OCHE CONFID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2760" y="248760"/>
            <a:ext cx="82263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017706: Bevacizumab in mPa Cancer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82520" y="1581120"/>
            <a:ext cx="2957400" cy="2014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ddba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a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72970"/>
                </a:solidFill>
                <a:uFillTx/>
                <a:latin typeface="Arial"/>
                <a:ea typeface="Arial"/>
              </a:rPr>
              <a:t>M+ Pa 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Gem: 1000 mg/m2 q8/4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Tarceva: 100 mg/d 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Bev: 5 mg/kg D1,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N = 6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81600" y="1562040"/>
            <a:ext cx="4457520" cy="717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ddba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a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Gemcitabine + Tarceva + plac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N = 3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0" y="2854440"/>
            <a:ext cx="4449960" cy="747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ddba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a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</a:rPr>
              <a:t>Gemcitabine + Tarceva </a:t>
            </a: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+ bevacizum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2970"/>
                </a:solidFill>
                <a:latin typeface="Arial"/>
                <a:ea typeface="Arial"/>
              </a:rPr>
              <a:t>N = 3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AutoShape 7"/>
          <p:cNvCxnSpPr>
            <a:stCxn id="71" idx="3"/>
            <a:endCxn id="72" idx="1"/>
          </p:cNvCxnSpPr>
          <p:nvPr/>
        </p:nvCxnSpPr>
        <p:spPr>
          <a:xfrm flipV="1">
            <a:off x="3139920" y="1920600"/>
            <a:ext cx="842040" cy="667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75" name="AutoShape 8"/>
          <p:cNvCxnSpPr>
            <a:stCxn id="71" idx="3"/>
            <a:endCxn id="73" idx="1"/>
          </p:cNvCxnSpPr>
          <p:nvPr/>
        </p:nvCxnSpPr>
        <p:spPr>
          <a:xfrm>
            <a:off x="3139920" y="2588040"/>
            <a:ext cx="852840" cy="640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76" name="Text Box 11"/>
          <p:cNvSpPr/>
          <p:nvPr/>
        </p:nvSpPr>
        <p:spPr>
          <a:xfrm>
            <a:off x="3333600" y="16128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120" y="3610080"/>
            <a:ext cx="823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rnofsky Performance Status (KPS) (&lt; 80 vs. ≥ 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bumin level (&lt; 2.9 g/dL vs. ≥ 2.9 g/d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000" y="5003640"/>
            <a:ext cx="8377200" cy="131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atistic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power to detect a 30% increase in median overall survival (primary endpoint) from 6.9 to 9 months (HR: 0.77 - 2 sided logrank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0.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 monitoring for bleeding, proteinuria, HTN, thrombosis, I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EF7E-7A19-4B5A-BE84-8017B67CA8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017706: Bevacizumab in mPa Cancer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8355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FPI: 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18/07/2005 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LPI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29/09/2006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r of sites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92 (20 countries)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Cut-off date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15/03/2007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r pts not receiving drug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  24 pts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r of pts died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454 (446 planned)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r of pts on therapy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  85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Update: 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Oct 2007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r of pts discontinued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593 pts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r of pts died: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514 pts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E869-CE72-40EF-8DEF-7A47C6D36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301680"/>
            <a:ext cx="6750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 - Subject Disposition*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3600" y="1514520"/>
          <a:ext cx="7816680" cy="4021200"/>
        </p:xfrm>
        <a:graphic>
          <a:graphicData uri="http://schemas.openxmlformats.org/drawingml/2006/table">
            <a:tbl>
              <a:tblPr/>
              <a:tblGrid>
                <a:gridCol w="2585880"/>
                <a:gridCol w="1322640"/>
                <a:gridCol w="1382400"/>
                <a:gridCol w="1503360"/>
                <a:gridCol w="1022400"/>
              </a:tblGrid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em-Tar+P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em-Tar+Bv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 = 28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 = 2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Dea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76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7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live on treat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7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live in follow-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8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Lost to follow-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0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33"/>
          <p:cNvSpPr/>
          <p:nvPr/>
        </p:nvSpPr>
        <p:spPr>
          <a:xfrm>
            <a:off x="636480" y="61912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Based on safety pop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B216-E98A-4A40-BC29-04BBBE993E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640" y="301320"/>
            <a:ext cx="8226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 – Kaplan-Meier Curve for PFS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5594400"/>
            <a:ext cx="607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000" y="5773680"/>
            <a:ext cx="16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r pts at ris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579" t="30275" r="37731" b="31924"/>
          <a:stretch/>
        </p:blipFill>
        <p:spPr>
          <a:xfrm>
            <a:off x="1866960" y="905040"/>
            <a:ext cx="5530680" cy="439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13320" y="1324080"/>
            <a:ext cx="294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n PF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Gem-Tar+Bv5: 4.6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Gem-Tar+Pl:    3.6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0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: 0.73 (95% CI: 0.61-0.8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25640" y="5594400"/>
            <a:ext cx="54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v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232B-6726-4EFC-91A5-023C822C96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301320"/>
            <a:ext cx="8226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 – Kaplan-Meier Curve for OS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7295" t="30359" r="37532" b="31260"/>
          <a:stretch/>
        </p:blipFill>
        <p:spPr>
          <a:xfrm>
            <a:off x="1865160" y="903240"/>
            <a:ext cx="5532480" cy="452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06600" y="5594400"/>
            <a:ext cx="4749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144440"/>
            <a:ext cx="3067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n O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Gem-Tar+Bv5: 7.1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Gem-Tar+Pl:    6.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2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: 0.89 (95% CI: 0.74-1.0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000" y="5773680"/>
            <a:ext cx="16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r pts at ris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5640" y="5594400"/>
            <a:ext cx="54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v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A105-AC2E-4B18-B7FD-341FC35FB5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 - Safety Summary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000" y="1865160"/>
          <a:ext cx="8416800" cy="2997360"/>
        </p:xfrm>
        <a:graphic>
          <a:graphicData uri="http://schemas.openxmlformats.org/drawingml/2006/table">
            <a:tbl>
              <a:tblPr/>
              <a:tblGrid>
                <a:gridCol w="3787560"/>
                <a:gridCol w="1420920"/>
                <a:gridCol w="1057320"/>
                <a:gridCol w="1074600"/>
                <a:gridCol w="1076400"/>
              </a:tblGrid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em-Tar+P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em-Tar+Bv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 = 28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= 2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ny Grade 3 / 4 / 5 A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SA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Es Leading to Bev Dis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Es Leading to D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60 day mort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2E57-D4F1-48AE-B454-94A0F4B2D2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600" y="421920"/>
            <a:ext cx="675000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 – AEs of Special Interest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1640" y="1084320"/>
          <a:ext cx="8226720" cy="5159160"/>
        </p:xfrm>
        <a:graphic>
          <a:graphicData uri="http://schemas.openxmlformats.org/drawingml/2006/table">
            <a:tbl>
              <a:tblPr/>
              <a:tblGrid>
                <a:gridCol w="2576520"/>
                <a:gridCol w="1443240"/>
                <a:gridCol w="1082520"/>
                <a:gridCol w="1649520"/>
                <a:gridCol w="1474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umber of Patients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em-Tar+P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em-Tar+Bv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dverse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 = 2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N = 2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Blee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Epistax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Proteinu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V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GI perfo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Wound Hea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CH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 Unicode MS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E97C-F498-473B-BF85-7A7D9DB2E6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195120"/>
            <a:ext cx="793728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: Multiple cox regression, unstrat. for OS*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000" y="843120"/>
          <a:ext cx="8354880" cy="5259240"/>
        </p:xfrm>
        <a:graphic>
          <a:graphicData uri="http://schemas.openxmlformats.org/drawingml/2006/table">
            <a:tbl>
              <a:tblPr/>
              <a:tblGrid>
                <a:gridCol w="4776840"/>
                <a:gridCol w="961920"/>
                <a:gridCol w="1442880"/>
                <a:gridCol w="1173240"/>
              </a:tblGrid>
              <a:tr h="447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Covariate in 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95% 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Randomized trea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60:0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0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Baseline CRP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Med vs. &gt;M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29:0.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Location of T (Body vs. hea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18:2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Region (West Eur2 vs. West Eur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47:0.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0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Baseline CA19.9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Med vs. &gt;M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59:0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0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Baseline KPS (&lt;80% vs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8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14:2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0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Baseline LDH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ULN vs. &gt;UL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57:0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0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03:1.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1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Baseline tot Bilirubin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ULN vs. &gt;UL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51:0.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1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Liver lesions at Bsl (Y vs. 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1.03:1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Imago"/>
                          <a:ea typeface="Arial"/>
                        </a:rPr>
                        <a:t>0.03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05F9-7ED0-4D5B-9D42-AC15C35A9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8440" y="452520"/>
            <a:ext cx="67503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33"/>
                </a:solidFill>
                <a:latin typeface="Imago"/>
              </a:rPr>
              <a:t>BO17706: Summary</a:t>
            </a:r>
            <a:endParaRPr b="1" lang="en-US" sz="26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6360" y="1806480"/>
            <a:ext cx="8355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500"/>
              </a:spcBef>
              <a:buClr>
                <a:srgbClr val="ffffff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Efficacy: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Highly significant PFS Benefit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HR: 0.73 – 95% CI: 0.61-0.86 - p = 0.0002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Trend towards OS (primary endpoint) benefit 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HR: 0.89 – 95% CI: 0.74-1.07 – p = 0.2087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-285840">
              <a:spcBef>
                <a:spcPts val="1500"/>
              </a:spcBef>
              <a:buClr>
                <a:srgbClr val="ffffff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No new safety signal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-285840">
              <a:spcBef>
                <a:spcPts val="1500"/>
              </a:spcBef>
              <a:buClr>
                <a:srgbClr val="ffffff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Very favorable benefit risk ratio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  <a:p>
            <a:pPr marL="285840" indent="-285840">
              <a:spcBef>
                <a:spcPts val="1500"/>
              </a:spcBef>
              <a:buClr>
                <a:srgbClr val="ffffff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ago"/>
              </a:rPr>
              <a:t>Further steps required</a:t>
            </a:r>
            <a:endParaRPr b="0" lang="en-US" sz="2400" spc="-1" strike="noStrike">
              <a:solidFill>
                <a:srgbClr val="ffffff"/>
              </a:solidFill>
              <a:latin typeface="Im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A100-0BBA-442F-9424-9861FADE6C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1:54:00Z</dcterms:created>
  <dc:creator>ruizdeef</dc:creator>
  <dc:description/>
  <dc:language>en-US</dc:language>
  <cp:lastModifiedBy>Genentech, Inc.</cp:lastModifiedBy>
  <dcterms:modified xsi:type="dcterms:W3CDTF">2007-11-15T22:20:25Z</dcterms:modified>
  <cp:revision>325</cp:revision>
  <dc:subject/>
  <dc:title>Avastin In Lung (AVAiL) Study Results LCC Meeting – Feb 19th, 2007   Fermin Ruiz de Erenchun, on behalf of the Avastin in Lung, Renal cancer &amp; other indications</dc:title>
</cp:coreProperties>
</file>